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896-0796-4515-B058-A58110C7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9DF-27DA-46AC-BA50-0497C44C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445-4144-41E1-B13B-B037E992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E3F-3F36-4352-A41D-75934106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B899D-64F0-4F5B-AA4B-707E8926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2643C-EC0C-4A1F-8373-636F7F90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2A6C0-05CF-4B91-AB99-9E173ADB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63F32-0DFB-4D63-891B-4FB8DA73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DC03E-D818-462A-A7CF-3E61F6EE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D30A6-2063-4C6C-9B73-94C69936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C09FB-DA23-48A9-93F2-8D9F709D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0D7-2FF4-44A1-B1AC-D952A9F3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5CD11-0013-462F-8FF6-86A4BEB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2173E-3828-4002-98A0-CDF49BE0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FF2C9-B86C-4322-A2AC-560A0EA0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1F5F8-3870-4BEA-8A0E-0917766E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91A25-BB7F-4252-9FD6-8BAAA7E9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B08-B2CB-42F5-87AC-F415441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A8C-8D1A-4BBB-B4CD-E0878711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3F8-7F2F-4CAA-8864-0C509C2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68B-E44A-4341-8EFD-0F72C558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A7C-8B07-4E18-8A80-CED00EB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F75-37EC-4C55-A49B-79EEC25C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494-051D-4E98-884D-15202DC7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CD39-0576-49CF-A0CA-CA1CB77B0C5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4789-47D3-4559-812F-2AD02CDEC99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news.baidu.com/ir?u=http://www.nx.xinhuanet.com/newscenter/2006-03/13/xin_520303131137734771012.jpg&amp;f=http://www.nx.xinhuanet.com/newscenter/2006-03/13/content_6453473.htm&amp;c=baidu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x.xinhuanet.com/newscenter/2006-03/13/content_6453473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4076640"/>
            <a:ext cx="1069344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八荣八耻”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00160"/>
            <a:ext cx="882000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这是山东济南师范附属小学的“城管小卫士”在清理街头“牛皮癣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001.jpg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小朋友在大人的指导下把饮料盒放进垃圾箱里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16.jpg"/>
          <p:cNvPicPr/>
          <p:nvPr/>
        </p:nvPicPr>
        <p:blipFill>
          <a:blip r:embed="rId2"/>
          <a:stretch/>
        </p:blipFill>
        <p:spPr>
          <a:xfrm>
            <a:off x="0" y="140976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这是在河南郑州火车站售票大厅内，旅客在一米线外排队等待购票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15.jpg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拧紧正在滴水的水龙头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20.jpg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一，我拍一，八荣八耻要牢记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二，我拍二，为了祖国要出劲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三，我拍三，铺张浪费要揭穿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四，我拍四，做人不能自顾自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五，我拍五，好逸恶劳是耻辱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六，我拍六，我们尊老也爱幼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七，我拍七，崇尚科学属第一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八，我拍八，诚实守信人人夸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九，我拍九，法律法规要遵守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你拍十，我拍十，争做文明小卫士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-330840" y="245520"/>
            <a:ext cx="1399320" cy="62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八荣八耻”道德歌谣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02920" y="71280"/>
            <a:ext cx="987588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一，我拍一，八荣八耻要明晰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二，我拍二，爱国爱校爱伙伴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三，我拍三，服务人民记心间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四，我拍四，崇尚科学立大志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五，我拍五，团结友爱讲互助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六，我拍六，做事诚实不能丢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七，我拍七，参加劳动要积极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八，我拍八，自觉遵纪又守法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九，我拍九，克服困难争上游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你拍十，我拍十，知晓荣辱会做事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-330840" y="245520"/>
            <a:ext cx="1399320" cy="62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八荣八耻”道德歌谣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5640" y="148428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004.jpg"/>
          <p:cNvPicPr/>
          <p:nvPr/>
        </p:nvPicPr>
        <p:blipFill>
          <a:blip r:embed="rId2"/>
          <a:stretch/>
        </p:blipFill>
        <p:spPr>
          <a:xfrm>
            <a:off x="0" y="-1971720"/>
            <a:ext cx="9144000" cy="936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以热爱祖国为荣、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</a:rPr>
              <a:t>以危害祖国耻，</a:t>
            </a: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以服务人民为荣、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</a:rPr>
              <a:t>以背离人民耻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以崇尚科学为荣、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</a:rPr>
              <a:t>以愚昧无知耻，</a:t>
            </a: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以辛勤劳动为荣、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</a:rPr>
              <a:t>以好逸恶劳耻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以团结互助为荣、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</a:rPr>
              <a:t>以损人利己耻，</a:t>
            </a:r>
            <a:r>
              <a:rPr b="0" lang="zh-CN" sz="7200" spc="-1" strike="noStrike">
                <a:solidFill>
                  <a:srgbClr val="ff0000"/>
                </a:solidFill>
                <a:latin typeface="Tahoma"/>
              </a:rPr>
              <a:t>以诚实守信为荣、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</a:rPr>
              <a:t>以见利忘义耻，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8000" spc="-1" strike="noStrike">
                <a:solidFill>
                  <a:srgbClr val="ff0000"/>
                </a:solidFill>
                <a:latin typeface="Tahoma"/>
              </a:rPr>
              <a:t>以遵纪守法为荣、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</a:rPr>
              <a:t>以违法乱纪为耻，</a:t>
            </a:r>
            <a:r>
              <a:rPr b="0" lang="zh-CN" sz="8000" spc="-1" strike="noStrike">
                <a:solidFill>
                  <a:srgbClr val="ff0000"/>
                </a:solidFill>
                <a:latin typeface="Tahoma"/>
              </a:rPr>
              <a:t>以艰苦奋斗为荣、</a:t>
            </a:r>
            <a:r>
              <a:rPr b="0" lang="zh-CN" sz="8000" spc="-1" strike="noStrike">
                <a:solidFill>
                  <a:srgbClr val="ffcc00"/>
                </a:solidFill>
                <a:latin typeface="Tahoma"/>
              </a:rPr>
              <a:t>以骄奢淫逸为耻。</a:t>
            </a:r>
            <a:r>
              <a:rPr b="0" lang="zh-CN" sz="8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宁夏银川市新华街上的盲道被自行车、摩托车随意占用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003.jpg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这是在江苏南京“全国医药保健品交易会”现场的地面上撒满了被丢弃的宣传材料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002.jpg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随手乱扔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341360"/>
            <a:ext cx="777708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24360" y="1125360"/>
            <a:ext cx="935280" cy="395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4:06:0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01:45Z</dcterms:modified>
  <cp:revision>13</cp:revision>
  <dc:subject>主题班会课件(分28大类): http://shop62905894.taobao.com</dc:subject>
  <dc:title>主题班会课件(分28大类): http://shop62905894.taobao.com</dc:title>
</cp:coreProperties>
</file>